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319-759D-44F9-B192-0C382BE6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3E5-68DD-4DCE-B8D5-4FE5117B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FA5-CF37-45E2-B451-5BB19071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F25-31F2-4330-9D44-B8E5C806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28D-AF73-4686-955A-C08F24AB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877-683C-4374-8CEB-606C3C0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4D5-C829-47D5-A6C0-ACE7A7E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B4E-B281-4689-8792-AC737F5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5DE-1B73-457D-9B07-088FA90E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188B-89E3-4419-8C56-710359D5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7080-F711-4A30-B97A-E4A5B96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AC0-C00F-4DAD-BAFD-178C55F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F991-AE91-4C68-8E53-45EFA7B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40D6-C723-4B0D-81C3-4BA4CA5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E7A-E2E2-4A4F-B3EB-033D06B0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FA62-132F-45A9-8E67-8153CF9D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54C-7765-418D-B5A7-D4E35D0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BB8-036C-4743-A01B-DAB4BA7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F0A-4B55-48D1-8618-D0A7268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620-5529-4F70-A7BF-D005DCE6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1F1-F03E-4B54-B61C-5BACF3E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B6D-9AD6-4865-A88B-FD2888E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1A7-5099-49CE-AF5C-4B85BB9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9B9-5379-4A58-9CCD-D168CFD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0D8-38B1-42AE-863F-4B3B8591836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89F0-E184-4F0F-AA25-369F080F9C0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eum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museums, vendors, relate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, testbeds, awareness, education,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community use of O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 with oth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 Repository in a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via CIMI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harvest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048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800" spc="-1" strike="noStrike">
                <a:solidFill>
                  <a:srgbClr val="115546"/>
                </a:solidFill>
                <a:latin typeface="Arial"/>
              </a:rPr>
              <a:t>http://www.cimi.org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2280" y="0"/>
            <a:ext cx="8762400" cy="762120"/>
            <a:chOff x="152280" y="0"/>
            <a:chExt cx="8762400" cy="762120"/>
          </a:xfrm>
        </p:grpSpPr>
        <p:pic>
          <p:nvPicPr>
            <p:cNvPr id="177" name="bannerdots" descr=""/>
            <p:cNvPicPr/>
            <p:nvPr/>
          </p:nvPicPr>
          <p:blipFill>
            <a:blip r:embed="rId1"/>
            <a:stretch/>
          </p:blipFill>
          <p:spPr>
            <a:xfrm>
              <a:off x="152280" y="0"/>
              <a:ext cx="8640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bannercimi" descr=""/>
            <p:cNvPicPr/>
            <p:nvPr/>
          </p:nvPicPr>
          <p:blipFill>
            <a:blip r:embed="rId2"/>
            <a:stretch/>
          </p:blipFill>
          <p:spPr>
            <a:xfrm>
              <a:off x="273600" y="228600"/>
              <a:ext cx="58111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bannerwords" descr=""/>
            <p:cNvPicPr/>
            <p:nvPr/>
          </p:nvPicPr>
          <p:blipFill>
            <a:blip r:embed="rId3"/>
            <a:stretch/>
          </p:blipFill>
          <p:spPr>
            <a:xfrm>
              <a:off x="3103560" y="628560"/>
              <a:ext cx="5811120" cy="13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Interchange &amp;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39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fo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ML,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 fo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for rich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terest in OAI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as access enabl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imple, low barrier as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to evaluate D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riendly with OAI 1.0 for muse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useums 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llection provided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 DC test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 objects and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,000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museu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4330800" cy="563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25960" y="1346040"/>
            <a:ext cx="3124080" cy="476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2600" y="1974960"/>
            <a:ext cx="1880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useum</a:t>
            </a:r>
            <a:br>
              <a:rPr sz="3600"/>
            </a:b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356868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echnical Infrastru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AI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HTTP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pplication Roadm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18288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66688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J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3505320"/>
            <a:ext cx="3733560" cy="5331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-HTTP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 Repository API_x0008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5257800"/>
            <a:ext cx="3733560" cy="7621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Of API Using My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2"/>
            <a:endCxn id="161" idx="0"/>
          </p:cNvCxnSpPr>
          <p:nvPr/>
        </p:nvCxnSpPr>
        <p:spPr>
          <a:xfrm>
            <a:off x="37717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3771720" y="32000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3771720" y="403812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8" name=""/>
          <p:cNvCxnSpPr>
            <a:stCxn id="163" idx="2"/>
            <a:endCxn id="164" idx="0"/>
          </p:cNvCxnSpPr>
          <p:nvPr/>
        </p:nvCxnSpPr>
        <p:spPr>
          <a:xfrm>
            <a:off x="3771720" y="487692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Development Proces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API for OAMS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Servlet to Interface Between HTTP/OAI Protocol Layers and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 Reference Implementation of OAMS-Compliant Repository using JDBC and 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ssues With Implementa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Query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ecur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0:56Z</dcterms:created>
  <dc:creator>Thomas Hofmann</dc:creator>
  <dc:description/>
  <dc:language>en-US</dc:language>
  <cp:lastModifiedBy>John Perkins</cp:lastModifiedBy>
  <cp:lastPrinted>1999-04-29T14:22:04Z</cp:lastPrinted>
  <dcterms:modified xsi:type="dcterms:W3CDTF">2001-01-24T05:38:47Z</dcterms:modified>
  <cp:revision>211</cp:revision>
  <dc:subject>Dublin Core</dc:subject>
  <dc:title>Using Dublin Core in Museums</dc:title>
</cp:coreProperties>
</file>